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4BB-DECA-4CA0-BD94-1A1C9EF8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671-60CD-4C07-A67F-024D9B1E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7EB-8A18-483B-96EC-068556DA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34B-6CFE-44DD-9C81-C2E9CF98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7EA-2141-4F8E-B490-91624D8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358-BDB0-4CD1-B737-2D4FECE2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9A3-1B23-4D6D-B23E-43BD0DF9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13B-2C5A-457F-B127-362418C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931-269C-4B57-AE7F-BE55411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5A7-BF5F-4878-9CEC-79BE902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B17-4573-4E51-81A8-6D5CBF59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25B-7748-4B3D-95D3-9DE33E0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050-7016-4737-8FD0-937EDF76F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mathbord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52880" y="3276720"/>
            <a:ext cx="3200400" cy="2977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atios and Propor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>
            <a:off x="914400" y="3962520"/>
            <a:ext cx="2514600" cy="2361960"/>
          </a:xfrm>
          <a:custGeom>
            <a:avLst/>
            <a:gdLst>
              <a:gd name="textAreaLeft" fmla="*/ 367920 w 2514600"/>
              <a:gd name="textAreaRight" fmla="*/ 2146680 w 2514600"/>
              <a:gd name="textAreaTop" fmla="*/ 345600 h 2361960"/>
              <a:gd name="textAreaBottom" fmla="*/ 2016360 h 236196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MCj02325710000[1]"/>
          <p:cNvPicPr/>
          <p:nvPr/>
        </p:nvPicPr>
        <p:blipFill>
          <a:blip r:embed="rId2"/>
          <a:stretch/>
        </p:blipFill>
        <p:spPr>
          <a:xfrm rot="510600">
            <a:off x="2362320" y="3580920"/>
            <a:ext cx="20574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 propor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600200" y="2895480"/>
                <a:ext cx="16002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838080" y="1828800"/>
            <a:ext cx="61722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oss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581280" y="35053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410080" y="3352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=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867280" y="4343400"/>
            <a:ext cx="1219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 flipV="1">
            <a:off x="6019560" y="3962520"/>
            <a:ext cx="228600" cy="3808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6553080" y="3962520"/>
            <a:ext cx="304920" cy="3808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562720" y="5334120"/>
            <a:ext cx="1752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H="1" flipV="1">
            <a:off x="5638680" y="3962520"/>
            <a:ext cx="152640" cy="1371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7162560" y="3962520"/>
            <a:ext cx="75960" cy="1371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an ex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143000" y="1600200"/>
                <a:ext cx="1295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6"/>
          <p:cNvSpPr/>
          <p:nvPr/>
        </p:nvSpPr>
        <p:spPr>
          <a:xfrm>
            <a:off x="2819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219320" y="3276720"/>
            <a:ext cx="198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(6) 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 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2819520" y="3581280"/>
            <a:ext cx="3045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another ex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1143000" y="1676520"/>
                <a:ext cx="13716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6"/>
          <p:cNvSpPr/>
          <p:nvPr/>
        </p:nvSpPr>
        <p:spPr>
          <a:xfrm>
            <a:off x="274320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295280" y="320040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2(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2209680" y="4419720"/>
                <a:ext cx="397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 Box 10"/>
          <p:cNvSpPr/>
          <p:nvPr/>
        </p:nvSpPr>
        <p:spPr>
          <a:xfrm>
            <a:off x="3505320" y="3276720"/>
            <a:ext cx="26668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>
            <a:off x="3200040" y="350532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4114800" y="4191120"/>
            <a:ext cx="4419720" cy="1904760"/>
          </a:xfrm>
          <a:prstGeom prst="wedgeEllipseCallout">
            <a:avLst>
              <a:gd name="adj1" fmla="val -50717"/>
              <a:gd name="adj2" fmla="val -460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 you solve it using Reciprocal Property? If yes, would it be eas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solve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932040" y="1676520"/>
                <a:ext cx="1795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Text Box 5"/>
          <p:cNvSpPr/>
          <p:nvPr/>
        </p:nvSpPr>
        <p:spPr>
          <a:xfrm>
            <a:off x="274320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3200400"/>
            <a:ext cx="3809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(x-1)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3x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= 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809880" y="3276720"/>
            <a:ext cx="28195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3123720" y="342900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828800" y="4952880"/>
                <a:ext cx="476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AutoShape 11"/>
          <p:cNvSpPr/>
          <p:nvPr/>
        </p:nvSpPr>
        <p:spPr>
          <a:xfrm>
            <a:off x="4114800" y="4191120"/>
            <a:ext cx="4267080" cy="1295280"/>
          </a:xfrm>
          <a:prstGeom prst="wedgeEllipseCallout">
            <a:avLst>
              <a:gd name="adj1" fmla="val -50745"/>
              <a:gd name="adj2" fmla="val -442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gain, Reciproc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32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you know enough about properties, let’s solve the Mysterious problem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685800" y="4876920"/>
                <a:ext cx="3505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5181480" y="4876920"/>
                <a:ext cx="1143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5"/>
          <p:cNvSpPr/>
          <p:nvPr/>
        </p:nvSpPr>
        <p:spPr>
          <a:xfrm>
            <a:off x="685800" y="152388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09480" y="16765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car ge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miles/gal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many gallons of gas do you need to commute to school every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MPj04385130000[1]"/>
          <p:cNvPicPr/>
          <p:nvPr/>
        </p:nvPicPr>
        <p:blipFill>
          <a:blip r:embed="rId1"/>
          <a:stretch/>
        </p:blipFill>
        <p:spPr>
          <a:xfrm>
            <a:off x="762120" y="2971800"/>
            <a:ext cx="1066680" cy="9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MPj04394220000[1]"/>
          <p:cNvPicPr/>
          <p:nvPr/>
        </p:nvPicPr>
        <p:blipFill>
          <a:blip r:embed="rId2"/>
          <a:stretch/>
        </p:blipFill>
        <p:spPr>
          <a:xfrm>
            <a:off x="6477120" y="2895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Line 12"/>
          <p:cNvSpPr/>
          <p:nvPr/>
        </p:nvSpPr>
        <p:spPr>
          <a:xfrm>
            <a:off x="1905120" y="373392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1904760" y="342900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2819520" y="3657600"/>
            <a:ext cx="228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89548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914400" y="4419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x be the number gallons we need for a 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4267080" y="51814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371600" y="4952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429000" y="4952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 flipV="1">
            <a:off x="1295280" y="5410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V="1">
            <a:off x="3200400" y="54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6"/>
          <p:cNvSpPr/>
          <p:nvPr/>
        </p:nvSpPr>
        <p:spPr>
          <a:xfrm>
            <a:off x="6629400" y="4572000"/>
            <a:ext cx="1905120" cy="838080"/>
          </a:xfrm>
          <a:prstGeom prst="wedgeRoundRectCallout">
            <a:avLst>
              <a:gd name="adj1" fmla="val -38583"/>
              <a:gd name="adj2" fmla="val 7727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solve it from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7"/>
          <p:cNvSpPr/>
          <p:nvPr/>
        </p:nvSpPr>
        <p:spPr>
          <a:xfrm rot="8710800">
            <a:off x="4800240" y="586656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2971800" y="6248520"/>
            <a:ext cx="2209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       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9"/>
              <p:cNvSpPr txBox="1"/>
              <p:nvPr/>
            </p:nvSpPr>
            <p:spPr>
              <a:xfrm>
                <a:off x="3809880" y="6019920"/>
                <a:ext cx="304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04920" y="2209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you use up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3 gal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day. How many gallons would you use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MPj04385130000[1]"/>
          <p:cNvPicPr/>
          <p:nvPr/>
        </p:nvPicPr>
        <p:blipFill>
          <a:blip r:embed="rId1"/>
          <a:stretch/>
        </p:blipFill>
        <p:spPr>
          <a:xfrm>
            <a:off x="838080" y="762120"/>
            <a:ext cx="1067040" cy="98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MPj04394220000[1]"/>
          <p:cNvPicPr/>
          <p:nvPr/>
        </p:nvPicPr>
        <p:blipFill>
          <a:blip r:embed="rId2"/>
          <a:stretch/>
        </p:blipFill>
        <p:spPr>
          <a:xfrm>
            <a:off x="6553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Line 10"/>
          <p:cNvSpPr/>
          <p:nvPr/>
        </p:nvSpPr>
        <p:spPr>
          <a:xfrm>
            <a:off x="1981080" y="1523880"/>
            <a:ext cx="426744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1981080" y="1219320"/>
            <a:ext cx="426744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895480" y="1447920"/>
            <a:ext cx="228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71800" y="914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33520" y="33526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 be the number of gallons we need for a we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762120" y="3821040"/>
                <a:ext cx="27432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l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8"/>
              <p:cNvSpPr txBox="1"/>
              <p:nvPr/>
            </p:nvSpPr>
            <p:spPr>
              <a:xfrm>
                <a:off x="5334120" y="3886200"/>
                <a:ext cx="1295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1143000" y="5334120"/>
                <a:ext cx="1000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4"/>
              <p:cNvSpPr txBox="1"/>
              <p:nvPr/>
            </p:nvSpPr>
            <p:spPr>
              <a:xfrm>
                <a:off x="3276720" y="5715000"/>
                <a:ext cx="1752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8"/>
              <p:cNvSpPr txBox="1"/>
              <p:nvPr/>
            </p:nvSpPr>
            <p:spPr>
              <a:xfrm>
                <a:off x="6248520" y="5334120"/>
                <a:ext cx="1106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Line 29"/>
          <p:cNvSpPr/>
          <p:nvPr/>
        </p:nvSpPr>
        <p:spPr>
          <a:xfrm>
            <a:off x="1600200" y="38862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0"/>
          <p:cNvSpPr/>
          <p:nvPr/>
        </p:nvSpPr>
        <p:spPr>
          <a:xfrm>
            <a:off x="2895480" y="3809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1371600" y="44197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>
            <a:off x="289548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3"/>
          <p:cNvSpPr/>
          <p:nvPr/>
        </p:nvSpPr>
        <p:spPr>
          <a:xfrm>
            <a:off x="4038480" y="42670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4"/>
          <p:cNvSpPr/>
          <p:nvPr/>
        </p:nvSpPr>
        <p:spPr>
          <a:xfrm>
            <a:off x="5257800" y="58672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5"/>
          <p:cNvSpPr/>
          <p:nvPr/>
        </p:nvSpPr>
        <p:spPr>
          <a:xfrm>
            <a:off x="2362320" y="58672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238880" y="5715000"/>
            <a:ext cx="8384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8"/>
          <p:cNvSpPr/>
          <p:nvPr/>
        </p:nvSpPr>
        <p:spPr>
          <a:xfrm>
            <a:off x="3124080" y="4724280"/>
            <a:ext cx="1905120" cy="762120"/>
          </a:xfrm>
          <a:prstGeom prst="wedgeRoundRectCallout">
            <a:avLst>
              <a:gd name="adj1" fmla="val -47333"/>
              <a:gd name="adj2" fmla="val 870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roperty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685800" y="914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you use up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/3 gall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week (which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67 gall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Consider if the price of ga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69 dollars/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much would it cost fo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62120" y="23623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s be the sum of cost for a we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MPj04385130000[1]"/>
          <p:cNvPicPr/>
          <p:nvPr/>
        </p:nvPicPr>
        <p:blipFill>
          <a:blip r:embed="rId1"/>
          <a:stretch/>
        </p:blipFill>
        <p:spPr>
          <a:xfrm>
            <a:off x="990720" y="5334120"/>
            <a:ext cx="1066680" cy="984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MPj04394220000[1]"/>
          <p:cNvPicPr/>
          <p:nvPr/>
        </p:nvPicPr>
        <p:blipFill>
          <a:blip r:embed="rId2"/>
          <a:stretch/>
        </p:blipFill>
        <p:spPr>
          <a:xfrm>
            <a:off x="670572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Line 11"/>
          <p:cNvSpPr/>
          <p:nvPr/>
        </p:nvSpPr>
        <p:spPr>
          <a:xfrm>
            <a:off x="2133720" y="609588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2133360" y="579132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48120" y="6019920"/>
            <a:ext cx="228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12408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1054080" y="3056040"/>
                <a:ext cx="3452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dollar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gallo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llar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gallo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7"/>
              <p:cNvSpPr txBox="1"/>
              <p:nvPr/>
            </p:nvSpPr>
            <p:spPr>
              <a:xfrm>
                <a:off x="5638680" y="3063960"/>
                <a:ext cx="18288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Text Box 20"/>
          <p:cNvSpPr/>
          <p:nvPr/>
        </p:nvSpPr>
        <p:spPr>
          <a:xfrm>
            <a:off x="9144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9(1.67) =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4419720" y="4343400"/>
            <a:ext cx="2819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6.16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472428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3429000" y="4419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MPj04385130000[1]"/>
          <p:cNvPicPr/>
          <p:nvPr/>
        </p:nvPicPr>
        <p:blipFill>
          <a:blip r:embed="rId1"/>
          <a:stretch/>
        </p:blipFill>
        <p:spPr>
          <a:xfrm>
            <a:off x="914400" y="1676520"/>
            <a:ext cx="1066680" cy="984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MPj04394220000[1]"/>
          <p:cNvPicPr/>
          <p:nvPr/>
        </p:nvPicPr>
        <p:blipFill>
          <a:blip r:embed="rId2"/>
          <a:stretch/>
        </p:blipFill>
        <p:spPr>
          <a:xfrm>
            <a:off x="4343400" y="1676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Line 6"/>
          <p:cNvSpPr/>
          <p:nvPr/>
        </p:nvSpPr>
        <p:spPr>
          <a:xfrm>
            <a:off x="2057400" y="2438280"/>
            <a:ext cx="20574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2057040" y="2133720"/>
            <a:ext cx="1981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5812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914400" y="388620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ay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 bucks a 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st to get to school!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about weekend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ravel twice as much on weekends, say drive 10 miles to the Mall and 10 miles back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ow many gallons do you need now? How much would it cost totally?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ow much would it cost for a month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MPj04385130000[1]"/>
          <p:cNvPicPr/>
          <p:nvPr/>
        </p:nvPicPr>
        <p:blipFill>
          <a:blip r:embed="rId3"/>
          <a:stretch/>
        </p:blipFill>
        <p:spPr>
          <a:xfrm>
            <a:off x="914400" y="2743200"/>
            <a:ext cx="1066680" cy="98424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>
            <a:off x="2057400" y="3429000"/>
            <a:ext cx="464832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2057400" y="3200400"/>
            <a:ext cx="464832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factory-outlet-mall"/>
          <p:cNvPicPr/>
          <p:nvPr/>
        </p:nvPicPr>
        <p:blipFill>
          <a:blip r:embed="rId4"/>
          <a:stretch/>
        </p:blipFill>
        <p:spPr>
          <a:xfrm>
            <a:off x="6858000" y="2209680"/>
            <a:ext cx="1752480" cy="1712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2514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990720" y="6172200"/>
            <a:ext cx="77724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hink proportionally! . . . It’s all about propor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5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good_luck_comment_graphic_02"/>
          <p:cNvPicPr/>
          <p:nvPr/>
        </p:nvPicPr>
        <p:blipFill>
          <a:blip r:embed="rId1"/>
          <a:stretch/>
        </p:blipFill>
        <p:spPr>
          <a:xfrm rot="1297800">
            <a:off x="5313240" y="323964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6094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t of Assignment i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 #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will start the next session of class in 15 minutes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Rati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Rati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impl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propor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propor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ious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 is a comparison of tw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s can be written in three different w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4114800"/>
            <a:ext cx="5410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cause a ratio is a fraction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 can not b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438280" y="3733920"/>
                <a:ext cx="3812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8"/>
          <p:cNvSpPr/>
          <p:nvPr/>
        </p:nvSpPr>
        <p:spPr>
          <a:xfrm>
            <a:off x="1371600" y="5410080"/>
            <a:ext cx="59436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ios are express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ples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H="1">
            <a:off x="2971440" y="4267080"/>
            <a:ext cx="3049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Rat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oys and girls in the class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to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8120" y="4114800"/>
            <a:ext cx="2514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62520" y="3809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819520" y="2286000"/>
            <a:ext cx="3809880" cy="2438280"/>
          </a:xfrm>
          <a:prstGeom prst="wedgeRoundRectCallout">
            <a:avLst>
              <a:gd name="adj1" fmla="val -57750"/>
              <a:gd name="adj2" fmla="val -4531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eans, f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 boys you can find 11 girls to m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just 12 boys, 11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24 boys, 22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120 boys, 110 girls…a hug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457200" y="4419720"/>
            <a:ext cx="3352680" cy="1981080"/>
          </a:xfrm>
          <a:prstGeom prst="wedgeRoundRectCallout">
            <a:avLst>
              <a:gd name="adj1" fmla="val 615"/>
              <a:gd name="adj2" fmla="val -79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atio if the rectangle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cm long and 2cm wi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4 to 1, because for every 4cm, you can find 1cm to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28600" y="2895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ength and width of this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t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247320" y="4876920"/>
            <a:ext cx="88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ats and dogs at my hom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3200400" y="2819520"/>
            <a:ext cx="3657600" cy="1523880"/>
          </a:xfrm>
          <a:prstGeom prst="wedgeRoundRectCallout">
            <a:avLst>
              <a:gd name="adj1" fmla="val 38717"/>
              <a:gd name="adj2" fmla="val 9010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dogs and cats do I have? We don’t know, all we know is if they’d start a fight, each dog has to fight 2 c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mplify rat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s we saw on last slide were all simplified. How was it do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3124080" y="335268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ext Box 5"/>
          <p:cNvSpPr/>
          <p:nvPr/>
        </p:nvSpPr>
        <p:spPr>
          <a:xfrm>
            <a:off x="457200" y="29718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3520" y="3124080"/>
            <a:ext cx="3809880" cy="249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s can be ex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raction for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us to do math o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648320" y="27432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76520"/>
            <a:ext cx="4343400" cy="460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 of boys and girls in the clas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 of the rectangl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 of cats and dogs in my house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5715000" y="2057400"/>
                <a:ext cx="393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3200400" y="3505320"/>
                <a:ext cx="501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7924680" y="3048120"/>
                <a:ext cx="354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791320" y="5105520"/>
                <a:ext cx="35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mplify rat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 tell you I hav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2 cats and 6 d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an you simplify the ratio of cats and dogs to 2 to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143000" y="2819520"/>
                <a:ext cx="785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Text Box 21"/>
          <p:cNvSpPr/>
          <p:nvPr/>
        </p:nvSpPr>
        <p:spPr>
          <a:xfrm>
            <a:off x="23623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971800" y="2971800"/>
                <a:ext cx="12002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Text Box 21"/>
          <p:cNvSpPr/>
          <p:nvPr/>
        </p:nvSpPr>
        <p:spPr>
          <a:xfrm>
            <a:off x="44197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105520" y="2743200"/>
                <a:ext cx="5889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AutoShape 17"/>
          <p:cNvSpPr/>
          <p:nvPr/>
        </p:nvSpPr>
        <p:spPr>
          <a:xfrm>
            <a:off x="3657600" y="4495680"/>
            <a:ext cx="3657600" cy="1447920"/>
          </a:xfrm>
          <a:prstGeom prst="wedgeRoundRectCallout">
            <a:avLst>
              <a:gd name="adj1" fmla="val -41754"/>
              <a:gd name="adj2" fmla="val -69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both numerator and denominator by thei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eatest Common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20"/>
          <p:cNvCxnSpPr/>
          <p:nvPr/>
        </p:nvCxnSpPr>
        <p:spPr>
          <a:xfrm flipV="1">
            <a:off x="5694120" y="2590560"/>
            <a:ext cx="1316160" cy="915120"/>
          </a:xfrm>
          <a:prstGeom prst="curvedConnector5">
            <a:avLst>
              <a:gd name="adj1" fmla="val 109794"/>
              <a:gd name="adj2" fmla="val 49980"/>
              <a:gd name="adj3" fmla="val 109794"/>
            </a:avLst>
          </a:prstGeom>
          <a:ln w="3492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447920" y="1752480"/>
                <a:ext cx="57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2"/>
              <p:cNvSpPr txBox="1"/>
              <p:nvPr/>
            </p:nvSpPr>
            <p:spPr>
              <a:xfrm>
                <a:off x="1523880" y="4876920"/>
                <a:ext cx="5749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3"/>
              <p:cNvSpPr txBox="1"/>
              <p:nvPr/>
            </p:nvSpPr>
            <p:spPr>
              <a:xfrm>
                <a:off x="1447920" y="3352680"/>
                <a:ext cx="707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19"/>
          <p:cNvSpPr/>
          <p:nvPr/>
        </p:nvSpPr>
        <p:spPr>
          <a:xfrm>
            <a:off x="243828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4382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23623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8"/>
              <p:cNvSpPr txBox="1"/>
              <p:nvPr/>
            </p:nvSpPr>
            <p:spPr>
              <a:xfrm>
                <a:off x="3200400" y="3352680"/>
                <a:ext cx="378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0"/>
              <p:cNvSpPr txBox="1"/>
              <p:nvPr/>
            </p:nvSpPr>
            <p:spPr>
              <a:xfrm>
                <a:off x="3124080" y="1676520"/>
                <a:ext cx="4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1"/>
              <p:cNvSpPr txBox="1"/>
              <p:nvPr/>
            </p:nvSpPr>
            <p:spPr>
              <a:xfrm>
                <a:off x="5172120" y="2128680"/>
                <a:ext cx="2872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2"/>
              <p:cNvSpPr txBox="1"/>
              <p:nvPr/>
            </p:nvSpPr>
            <p:spPr>
              <a:xfrm>
                <a:off x="4800600" y="1828800"/>
                <a:ext cx="541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43"/>
          <p:cNvSpPr/>
          <p:nvPr/>
        </p:nvSpPr>
        <p:spPr>
          <a:xfrm>
            <a:off x="56386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4"/>
              <p:cNvSpPr txBox="1"/>
              <p:nvPr/>
            </p:nvSpPr>
            <p:spPr>
              <a:xfrm>
                <a:off x="6400800" y="1676520"/>
                <a:ext cx="750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5"/>
              <p:cNvSpPr txBox="1"/>
              <p:nvPr/>
            </p:nvSpPr>
            <p:spPr>
              <a:xfrm>
                <a:off x="4876920" y="3200400"/>
                <a:ext cx="57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Text Box 47"/>
          <p:cNvSpPr/>
          <p:nvPr/>
        </p:nvSpPr>
        <p:spPr>
          <a:xfrm>
            <a:off x="56386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8"/>
              <p:cNvSpPr txBox="1"/>
              <p:nvPr/>
            </p:nvSpPr>
            <p:spPr>
              <a:xfrm>
                <a:off x="6553080" y="3124080"/>
                <a:ext cx="412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0"/>
              <p:cNvSpPr txBox="1"/>
              <p:nvPr/>
            </p:nvSpPr>
            <p:spPr>
              <a:xfrm>
                <a:off x="3048120" y="4648320"/>
                <a:ext cx="485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on to propor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295280" y="2362320"/>
                <a:ext cx="1447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4"/>
          <p:cNvSpPr/>
          <p:nvPr/>
        </p:nvSpPr>
        <p:spPr>
          <a:xfrm>
            <a:off x="533520" y="1676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62520" y="2590920"/>
            <a:ext cx="43434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portion is an equation that equates two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2971800" y="3048120"/>
            <a:ext cx="9907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62120" y="4114800"/>
            <a:ext cx="5333760" cy="86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io of dogs and cats w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io of dogs and cats now i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/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838080" y="5334120"/>
            <a:ext cx="4419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have a propor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4521240" y="5105520"/>
                <a:ext cx="933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 propor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349280" y="1600200"/>
                <a:ext cx="202572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Line 7"/>
          <p:cNvSpPr/>
          <p:nvPr/>
        </p:nvSpPr>
        <p:spPr>
          <a:xfrm>
            <a:off x="1905120" y="2133720"/>
            <a:ext cx="838080" cy="99036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V="1">
            <a:off x="1981080" y="2209680"/>
            <a:ext cx="762120" cy="9144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 rot="7452000">
            <a:off x="742320" y="3981240"/>
            <a:ext cx="1181160" cy="380880"/>
          </a:xfrm>
          <a:prstGeom prst="rightArrow">
            <a:avLst>
              <a:gd name="adj1" fmla="val 36454"/>
              <a:gd name="adj2" fmla="val 547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04920" y="4648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x6=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rot="2901600">
            <a:off x="2990520" y="3867120"/>
            <a:ext cx="1104840" cy="381240"/>
          </a:xfrm>
          <a:prstGeom prst="rightArrow">
            <a:avLst>
              <a:gd name="adj1" fmla="val 36454"/>
              <a:gd name="adj2" fmla="val 51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76720" y="4495680"/>
            <a:ext cx="236196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3x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600200" y="5562720"/>
            <a:ext cx="2666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x4 = 2x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380880" y="571500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886200" y="3200400"/>
            <a:ext cx="4800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oss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0:31:17Z</dcterms:created>
  <dc:creator>Jeremiah McNichols</dc:creator>
  <dc:description/>
  <dc:language>en-US</dc:language>
  <cp:lastModifiedBy>Owner</cp:lastModifiedBy>
  <dcterms:modified xsi:type="dcterms:W3CDTF">2010-10-31T22:07:40Z</dcterms:modified>
  <cp:revision>23</cp:revision>
  <dc:subject/>
  <dc:title>Ratio and Proportions</dc:title>
</cp:coreProperties>
</file>